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149-DE23-4EC7-A2BD-5C2BA949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43B-824A-478F-916B-A8B1A9DD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F0C-90C4-4CA5-8D23-0A6E77DE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806-2D61-4B69-A790-9B399C82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203-26B3-4401-8EAD-6B2CAE24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BC7-8A9D-47BC-BF7E-36568608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9ED-6944-4B57-BC8A-4B806E34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F6B-BE27-4B55-BD2E-54FDBF73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044-2E6C-42B1-B6D1-BCAE7521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DAA-3125-4F75-A4C8-5455E906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745-79F8-4A15-AEB8-3D6EB04C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5BB-6503-46B0-ABDB-6E2A4753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248B-90CE-4F4D-86CA-845972E86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260280"/>
            <a:ext cx="8570880" cy="6289920"/>
            <a:chOff x="250920" y="260280"/>
            <a:chExt cx="8570880" cy="6289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198252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826920" y="1341360"/>
              <a:ext cx="7632720" cy="410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SATURDAY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NIGHT 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MURDER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7020000" y="5157720"/>
              <a:ext cx="1801800" cy="139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9:54:36Z</dcterms:created>
  <dc:creator>bourgau</dc:creator>
  <dc:description/>
  <dc:language>en-US</dc:language>
  <cp:lastModifiedBy>bourgau</cp:lastModifiedBy>
  <dcterms:modified xsi:type="dcterms:W3CDTF">2013-05-06T20:02:23Z</dcterms:modified>
  <cp:revision>2</cp:revision>
  <dc:subject/>
  <dc:title>Diapositive 1</dc:title>
</cp:coreProperties>
</file>